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9C7-847A-4AA7-AE19-DB048BBF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84B-EFDA-4A00-97C3-EAD02836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4EB-8433-4958-990F-0C040F59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DB0-09F1-49F9-927C-8EC78D0E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8A0-C964-45F3-9CFA-4ED2505F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E0B-9505-4A4E-828A-C0EC2637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8AA-1974-4BC0-8053-352BDAFC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EF2-3EEC-4F21-A835-0C78A54B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F84-BC30-4129-9FF8-E105AB95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461-AB07-4B72-A8DE-EECB986C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E6C-FCFE-4149-A863-8E63336D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5FA-B9AA-4D81-9F97-490D0970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829F1-EFAA-4AEF-9EDE-72773F262BA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98680" y="547560"/>
            <a:ext cx="7115040" cy="646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3560" y="507960"/>
            <a:ext cx="8601120" cy="6543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872480" y="4249800"/>
            <a:ext cx="581040" cy="237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08720" y="3270240"/>
            <a:ext cx="790560" cy="257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523200" y="4248000"/>
            <a:ext cx="533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508800" y="5256360"/>
            <a:ext cx="619200" cy="218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480000" y="5940360"/>
            <a:ext cx="723960" cy="238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1528920" y="5234040"/>
            <a:ext cx="847440" cy="237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503360" y="792000"/>
            <a:ext cx="800280" cy="22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016000" y="2901960"/>
            <a:ext cx="695520" cy="26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6475320" y="6696000"/>
            <a:ext cx="581040" cy="247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7991640" y="6696000"/>
            <a:ext cx="780840" cy="24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3527280" y="6738840"/>
            <a:ext cx="581040" cy="20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4656240" y="6664320"/>
            <a:ext cx="600120" cy="24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47320" y="1224000"/>
            <a:ext cx="554364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een leaf which is part of the caly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t of se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alk which supports the an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ck which stores the po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weet sub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rightly coloured leaf which is part of coro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t of p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 of the pistil where pollen 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larged basal part of the pis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ng part of the pis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ach one of the pieces which form the pis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ins which are able to fertilize ov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male 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50436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35640" y="1224000"/>
            <a:ext cx="2376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o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v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7760" y="973080"/>
            <a:ext cx="93726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647640"/>
            <a:ext cx="7143840" cy="4124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0520" y="5226120"/>
            <a:ext cx="4047840" cy="390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60520" y="5759280"/>
            <a:ext cx="4695840" cy="781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76360" y="6696000"/>
            <a:ext cx="4343400" cy="600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504040" y="5235480"/>
            <a:ext cx="4000320" cy="38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472000" y="5759280"/>
            <a:ext cx="4552920" cy="5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1071428571429 0.00457142857142857 C -0.0254285714285715 -0.0176666666666666 -0.0397129975756983 -0.034476364254341 -0.0416071428571429 -0.0594285714285714 C -0.0432844261566812 -0.0815239834278225 -0.0419195820811095 -0.103524672670623 -0.0431071428571429 -0.125428571428571 C -0.0442767252965589 -0.147000869755579 -0.0397142857142858 -0.167952380952381 -0.0416071428571429 -0.189428571428571 L -0.0446071428571429 -0.209428571428571 L -0.0446071428571429 -0.211428571428571 E">
                                      <p:cBhvr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714285714286 0.00414285714285714 C -0.148714285714286 0.00185714285714285 -0.164714580824994 -0.00089598842423307 -0.180714285714286 -0.00185714285714286 C -0.19721458349006 -0.00284836953671315 -0.213785187329672 -0.0008243194206833 -0.230214285714286 -0.00185714285714286 C -0.246356623462967 -0.00287193894368275 -0.262107102141901 0.00128469368569598 -0.278214285714286 0.00014285714285714 C -0.293678530750462 -0.00095340155503159 -0.309321926106376 0.00195988937807002 -0.324714285714286 0.00014285714285714 C -0.340786213837268 -0.00175439657427117 -0.356750289550387 -0.0015000064776373 -0.372714285714286 -0.00185714285714286 C -0.388678880942144 -0.00221429263852666 -0.40475 -0.00185714285714286 -0.420714285714286 -0.00185714285714286 C -0.43725 -0.00185714285714286 -0.453785315302816 -0.00270058101541422 -0.470214285714286 -0.00185714285714286 C -0.486249607526786 -0.00103391401455017 -0.502142857142857 0.00366666666666666 -0.518214285714286 0.00214285714285714 L -0.521214285714286 0.00214285714285714 E">
                                      <p:cBhvr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0357142857143 -0.00161904761904762 C -0.00025 -0.00204761904761905 0.0158553678931488 -0.00911608906688482 0.0324642857142857 -0.0116190476190476 C 0.0490339540650021 -0.0141160912886927 0.0646428571428571 -0.0212857142857143 0.0804642857142857 -0.0276190476190476 C 0.0962857142857143 -0.033952380952381 0.112572508290508 -0.0363275652053142 0.128464285714286 -0.0416190476190476 C 0.145322509434333 -0.0472323274909355 0.162035578133491 -0.0492390582793715 0.179464285714286 -0.0536190476190476 C 0.19614272102124 -0.0578104868584917 0.211535543771744 -0.0629484126076977 0.228964285714286 -0.0616190476190476 C 0.243999830034731 -0.0604722220896554 0.259000626022114 -0.0652311108747338 0.273964285714286 -0.0676190476190476 C 0.290929199176198 -0.0703263492453333 0.307536215772229 -0.0738483460104601 0.324964285714286 -0.0756190476190476 C 0.341750504031817 -0.0773245367452548 0.358180591814229 -0.0798470003930726 0.374464285714286 -0.0856190476190476 C 0.390287738276105 -0.0912279540517873 0.406928571428571 -0.0921904761904762 0.422464285714286 -0.0996190476190476 L 0.438928571428571 -0.101619047619048 L 0.452428571428571 -0.105619047619048 E">
                                      <p:cBhvr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3571428571429 0.00495238095238095 C -0.0056428571428572 0.00433333333333333 0.0094985163722109 0.015488461093545 0.0256428571428571 0.018952380952381 C 0.0436770927724392 0.022821795493594 0.0616085756379821 0.0266559611400975 0.0796428571428571 0.030952380952381 C 0.0977871506301344 0.0352750096081193 0.115785061487603 0.0400982610302785 0.133642857142857 0.046952380952381 C 0.149035061798509 0.0528601659115142 0.164320350577993 0.0586260506016795 0.180142857142857 0.062952380952381 C 0.196713209425089 0.0674831939248105 0.212679045233891 0.0704729993529152 0.229642857142857 0.074952380952381 C 0.245500474154753 0.0791396661118514 0.260214208384405 0.0877591951911704 0.276142857142857 0.086952380952381 C 0.292178494357093 0.0861401475590342 0.307106637973575 0.0894802042623246 0.322642857142857 0.0929523809523809 C 0.338428067123713 0.0964802043916601 0.353677810638316 0.0949150024045514 0.369142857142857 0.0969523809523809 C 0.386570671380851 0.0992483362121095 0.40417762584498 0.0993209704931351 0.421642857142857 0.0969523809523809 C 0.437534773868556 0.0947971602686673 0.453464285714286 0.091 0.469607142857143 0.0929523809523809 L 0.483107142857143 0.0909523809523809 E">
                                      <p:cBhvr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0357142857143 -0.0137142857142857 C 0.016 0.0075238095238095 0.0110345440743191 0.027333085166239 0.0085357142857143 0.0482857142857143 C 0.00596311548923224 0.0698568948045736 0.0038997252491055 0.0908579181257741 0.0025357142857143 0.112285714285714 C 0.00111401071933143 0.134619826721711 0.00660714285714287 0.155666666666667 0.0145357142857143 0.174285714285714 L 0.0160357142857143 0.194285714285714 L 0.0160357142857143 0.202285714285714 E">
                                      <p:cBhvr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303640" y="431640"/>
            <a:ext cx="5543280" cy="56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006600"/>
                </a:solidFill>
                <a:uFillTx/>
                <a:latin typeface="Arial"/>
              </a:rPr>
              <a:t>What are we talking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7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Having reached the matur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7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The usually small, hard part of a plant that grows into a new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7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A plant in the early stages of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7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The initial cell formed when two gamete cells are jo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7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Part of a seed that becomes the embryonic first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9:36:17Z</dcterms:created>
  <dc:creator>Rafael Moreno</dc:creator>
  <dc:description/>
  <dc:language>en-US</dc:language>
  <cp:lastModifiedBy>Rafael Moreno</cp:lastModifiedBy>
  <dcterms:modified xsi:type="dcterms:W3CDTF">2015-12-15T17:25:37Z</dcterms:modified>
  <cp:revision>5</cp:revision>
  <dc:subject/>
  <dc:title/>
</cp:coreProperties>
</file>